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BA01-16A4-4728-8C93-A62EB949D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BF50-45E0-4559-9593-DD1A3AF98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FD6113-4931-4040-B9DF-3369D7364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59477F-668D-4EB3-BCBE-F35F6A20B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FBD8D9-10F5-457A-978E-B38D0C9EC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C6CB38-0107-47AC-88B3-BF88705D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0C7F34-D604-41A2-8A32-FF1E3932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AC09D1-E04D-4166-BA66-AAB6EBBD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B32580-6FE3-4829-BF20-E3D0ADA14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9ABB10-A82F-48D5-B93D-CE54CA90D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948E26-569D-4EE3-B0D3-2930873BB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39D848-F723-4CA0-8D13-C9F674FCF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CB42-280A-4F7A-90C9-4294BE6A0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51377D-69BB-489D-981D-2184A47F5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36AD00-C5D8-4D18-B2CB-C3B0A78FA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B15CA2-3C1A-48FB-A7AD-B7C1CE7AE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5028D0-6AD5-416D-BB6B-E3768FDA6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83729D-14EA-41EA-938E-A893CB641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B024C5-5DD1-4276-892A-8B9F683D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4EA5F4-C20B-4CDB-99E4-37394435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FC1160-0274-4055-A2B4-4D497406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4CE7EB-B8E0-4C29-A06F-E7453B695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691D7F-7111-4114-B62C-F9447DA90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3F0A-D6C0-45AE-9F9E-DADF05F8C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6765EE-E0AA-4C36-AA6C-463F2881A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A1149E-1A26-41E0-99D5-F46D8009B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4F42A5-496B-4288-AD9B-E2507A9CA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71A942-14A5-4268-B589-4D48DC2D9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425EB1-4A29-4BEF-AA5A-DCC137273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FEE832-AD50-4B59-A5BC-2503AE887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B0E383-4221-4440-A363-4A6CC2767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2C2BD6-2A2B-43D6-8980-244F1004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B58AB0-A510-4612-83E2-F65A5A52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6FE65B-871D-47AA-BCFC-C1B159D9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57013-6D75-4600-9F3A-A94BF5D71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D066AF-7C0E-40E1-B971-5D75A76CA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04C73A-D70C-4CB6-8CE9-000FED3C8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A3CFF9-775F-4065-9A71-0619CEAD0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1CFFDD-BEA2-411F-9F12-81CA2FC5B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C48302-7210-4FA9-8409-CC218942E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AA4BCD-5455-4C8F-AF42-5B76AD6AF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09BB75-D4DE-46A3-A395-CA30F9971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FA8E73-3355-4D50-B25B-43F44B2D0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805F48-3192-4363-B92F-6264FADF2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371830-BB9F-4723-A7F4-F9B1CA15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5AA7C-1C02-4E39-97E3-C1258D553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F66013-6F40-4367-9520-B9055C09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4922C2-93C8-4E36-9EE1-14100C28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52A88B-6071-4882-94F9-FC481E0EE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A0717C-9C3B-4B8B-AE46-6BB2A8F5C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A694B3-CF38-4578-A335-F8668D2FB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FE4E10-5941-44C5-8EFA-53145A38F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81044B-7FE3-44EE-BA8F-06F6EBE36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FBDDA1-BA47-47A3-9156-DBAB3DC36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069CB5-E848-4075-B637-DA43312F0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CDA170-1B02-4D0B-9FE5-B9D0B3C26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DFAD7-DFB4-4D32-97FF-32253F297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0FF84B-F403-48A3-91C5-E62A1DF8C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727C22-604A-4E22-9AE9-3BB360EE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C5F2B9-57CE-4E3E-8829-EAFB3810A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5A6E3E-41E3-456B-9529-BABDC864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77AE59-E4A2-4027-8E6F-0D456C1D6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FDEB92-E885-4464-ABA4-9FA0E8C8C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F02AA4-C432-4422-B7F6-79DBDA748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CE4BD9F-CD26-4C19-9443-274DDAB24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1F982B7-BC08-41CD-A281-966EB20EB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17EF7C8-4447-4A8D-9F69-47A0507B4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787CD-A3FE-418D-B426-7A24D26B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391EE91-7C0B-4B03-A128-B225E82BC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749580D-EF64-4F88-A59D-113228767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EDF6788-D11A-42FD-B8F4-BF012AB0F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BE2185B-E460-4289-8C8D-1E50C375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5FC28ED-EAED-4845-9777-D1445DF0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8DB6BF8-2CF2-4C7A-A037-1099FB62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86B90AC-C778-49E0-A05F-C36FEF96E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3167697-44C6-4B4B-A286-F5295F4C4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8F331B3-CC03-4B28-B782-6B243C42C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920236-D271-46F0-A3F7-EF2AF3442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2AE70-76B4-4134-8868-E9A4702DF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D1BE9D-7E52-4D04-9AA8-13AE757C0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6A675F-6D09-445E-B76E-40C7A006A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069879-31DC-47B0-916F-B2EC17AA0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1F0127-6EC8-4378-BD66-9F74235AA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C69DB5-4BA1-4322-8463-C2888A4A3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0ADF2B-BA78-4CEB-879F-2CFACF54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3E8209-B2AD-4C6A-B831-1E8B9BEB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083E68-3523-41E2-A081-B8BA0340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40F68E-0B2F-48FD-A690-48F6FB00B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3F2904-3AFA-4911-8F69-1A2681AC6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499B5-3CD9-4D19-B392-90C63A042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F5B04E-C22E-410D-8D79-A029EFD4D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3D68A2-BBF6-4928-9528-081C52A71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088B30-FA05-4C73-AA94-B5EC7524A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D64F58-0727-4FC1-A50F-9956CCD53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766F13-232E-4CD5-8EFF-6395519CF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E7A3FE-E4E8-42B9-A54F-729B4338C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9CBC3D-7B69-4FE4-8E80-DAF37FCC1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0EB252-FDAC-4DB9-B208-4396CE9E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4D7E91-48BE-4CC6-B3E4-7FFE0F2B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C290E9-847E-47DD-BFD3-AED925C6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79957-4592-4066-8648-1BF4C0E6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EDFB10-65CB-4B48-A247-8BB26023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257A0E-77FE-4656-A591-59AB49A18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150A71-D158-4D3E-A416-292065226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C258-C3FE-4227-A5BA-4E960C5B2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ECB7D-2D88-4F14-A4A5-2A1B9A14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BA826-D172-4FA2-ABA6-D2122F2F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421B8-AAC1-45F1-ABFE-5A76B8F42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C68EC-A991-4A1F-AC93-C17F175CA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C9013-EA0B-49C5-AC9C-F14728134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05D4F-447C-4C62-B9D6-06B175246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7B332-8FFC-4748-B5BD-12A9D2D37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03E8E-6007-4A36-923C-98C91E26D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2D4B2-F423-4FC5-BEC7-D0722D861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71AF6-6056-49B3-A0E2-D26F7B514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4F89-5006-455F-B157-82444EAB6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F9F86-1AEB-45C2-A6B9-3056E6D6A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04C54-A68B-46A6-94F3-A031D7E0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5ACFD-CE96-402E-9EF9-070530FB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E21F9-D0A6-4683-8663-575B027B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6EDA8-5556-4D1A-AF12-16491D3A8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5FD0E-8C3B-45B7-B60B-07AB44432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DF567-9ADB-4B06-8864-0B30BA868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63FBA-36E4-42DF-9C49-91DCA4BBA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6AB29-3F2A-4D7A-AC73-F0033D23A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26345-69C5-4FBE-B6F4-AE49A4DD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4E71-D8A5-407F-AA12-E3F981FFF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E1C5F-2C98-4AB6-AE3B-604507A7F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0D766-B124-4BAF-ABFD-42E2FF4D0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6BF6B-1C40-40DF-B14F-BEEE9FE5B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8B3F7-3982-4033-8DB4-4BD457B4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69DF1-2383-47FD-B2DE-A01A1F5A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9B40C-BF65-45B5-9899-4D556078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D4103-70F9-4169-B369-2FDF6428E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7BD8A-347E-46A1-B08A-DBA10FE84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43B15-E9EB-470B-808F-B072BFEAF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D41C4-BF82-4792-BBCC-9F70D9A6B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6011-517A-4C9F-A37A-B1305E384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999F8-DEF3-416D-B6FE-92BAFB6C5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74831-B7D7-4D29-BBEC-720A5F376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A0A8C-A19B-4D45-9CC2-AF916DC48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04640-3E03-4375-ACC3-D973D6E33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5F95C-F95D-4209-AC72-BB7A0065D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BCF35-B1CE-4D43-ABC1-991F0A6E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3057B-52BB-4EAD-99BB-7DA27370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F18F6-A5B9-48F0-B141-F2ED562C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F9C0C-EAA2-4EFE-996E-377354344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D89C7-9D63-4DDA-A5A4-E3CF0185E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564E-C9DB-4112-A26B-CF7553983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47033-AF37-43B2-BB99-32CD25B81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70363-A008-4CEB-897C-072748A5B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5AE65-6E33-46FA-B68A-CBFCF4907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6C4189-E1A1-4C3B-9E2F-A947E2579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300B7-687B-48E0-8DEC-0F941681B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AB19A-C296-4A3F-89D2-706951D05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E0C69-A4A6-41F8-9EB6-157F63774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C6258-DC62-4694-AD86-BBA51A58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FCAD9-1D62-4106-AB5A-4AE28572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D3299-F881-4882-97C8-E9688FEC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AC00-69E9-49AC-BD42-7BC5C7DE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9E244-BC62-4AE0-9D1E-AA18E96DD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A8E619-DE23-4F67-9871-BD5C7EA32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BA072-EC72-464D-BFA2-28491CC63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56B02-B033-4518-B508-69771371C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05C2D4-4437-4923-8A00-ED3FFB40B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73A62-70F9-456E-9B87-1E0781A84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15F0C-978A-40F4-B4DA-CCFA94973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B8DEBF-CD4F-4F7C-BC26-21F744486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03471F-E66C-42C5-A9DD-B15602AF6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269FD-D139-446F-8A4B-C377CCA6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58B7-DD74-416D-B72A-53F3D4DD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B5272D-CFE9-4688-A97B-C5A4B664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B7184-EABF-4785-811B-8E689B94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28A44F-2747-4A67-81B9-486DFCF5E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E9EA72-94FE-40E4-994B-62520BA74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771C06-DD98-4B32-B3AB-52C534CEB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D79C3-1D14-4CA6-8ACE-73CD15B3C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4CA333-22CA-4F8D-8F21-6B8EC6FB4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6443CF-4DAE-445E-9AC4-226922941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37B851-BB6E-4D3F-B015-3798B3E87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A90B0B-A6CA-4F33-A222-5C1C6D68A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7DC3-3F46-4C68-B967-7DEF9DAB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C813FC-4867-4515-BAE6-39EB00904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B36B68-21B0-4D6F-8FE6-A6B798E4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EBFCD0-EA02-4D3A-9B11-8D2175FF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CD7A45-216D-42EF-8287-BDD0FFF1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49A45E-467E-47F6-B773-1C42254D8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B13D09-0BA6-4887-B94A-A09635E15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6EC629-3EA9-414A-AB9A-E78872427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9D48C8-DE81-4786-A763-F37DD8146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BC2596-8734-414B-9C0D-37BC6AD92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0EBE69-8C6C-4680-806F-22B181610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E9DDA-E937-40A7-91CF-0C9E7FFB8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568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09BA6-23DC-4ED4-81CD-C24A0508A32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61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61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62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71A5B-3C44-4689-905B-2DE4BB4DD17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80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80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1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81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dt" idx="3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1728-29E8-4071-9E68-D155BEEE8A0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BF783-FA02-4167-BC3A-E57F202B4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5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ftr" idx="4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 type="sldNum" idx="4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6A48E-8089-4E2F-BBAB-55FC4BF3C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 type="dt" idx="4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5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076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 type="dt" idx="43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 type="ftr" idx="44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5"/>
          <p:cNvSpPr>
            <a:spLocks noGrp="1"/>
          </p:cNvSpPr>
          <p:nvPr>
            <p:ph type="sldNum" idx="4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2264D-2548-49C0-917C-0F636D0FD63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0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1121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 type="dt" idx="46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 type="ftr" idx="47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 type="sldNum" idx="48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98321-E11E-44A0-A47F-5705ACEE8E6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D9C2C-5370-46B5-97B9-6268B4979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83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85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6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97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16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34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1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897AB-85E6-4074-AFDD-B0D6F0092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88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90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02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21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39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B4624-5887-4E89-A685-3F2C8D4D1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9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E1979-7A69-4EE3-A914-FCC8C9356E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5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C92A4-4405-4BA7-824A-A3BFDFAB43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41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CF77C-122F-4E3F-92B8-554976DC1B4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46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CE250-C8C8-4F66-AE3F-2F1FAF233F7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524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B6F1F-FBAA-4FE7-9783-510AB172429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Шумовое загрязнение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естелес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иктор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32 г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ГП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009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6" name="" descr=""/>
          <p:cNvPicPr/>
          <p:nvPr/>
        </p:nvPicPr>
        <p:blipFill>
          <a:blip r:embed="rId2"/>
          <a:stretch/>
        </p:blipFill>
        <p:spPr>
          <a:xfrm>
            <a:off x="4648320" y="1676160"/>
            <a:ext cx="4194000" cy="4422600"/>
          </a:xfrm>
          <a:prstGeom prst="rect">
            <a:avLst/>
          </a:prstGeom>
          <a:ln w="0">
            <a:noFill/>
          </a:ln>
        </p:spPr>
      </p:pic>
      <p:pic>
        <p:nvPicPr>
          <p:cNvPr id="1167" name="" descr=""/>
          <p:cNvPicPr/>
          <p:nvPr/>
        </p:nvPicPr>
        <p:blipFill>
          <a:blip r:embed="rId3"/>
          <a:stretch/>
        </p:blipFill>
        <p:spPr>
          <a:xfrm>
            <a:off x="2195640" y="2060640"/>
            <a:ext cx="5918040" cy="390528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Желаю успехов в получении новых знаний!!!!!!!!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9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8153280" cy="4038480"/>
          </a:xfrm>
          <a:prstGeom prst="rect">
            <a:avLst/>
          </a:prstGeom>
          <a:ln w="0">
            <a:noFill/>
          </a:ln>
        </p:spPr>
      </p:pic>
      <p:pic>
        <p:nvPicPr>
          <p:cNvPr id="1190" name="" descr=""/>
          <p:cNvPicPr/>
          <p:nvPr/>
        </p:nvPicPr>
        <p:blipFill>
          <a:blip r:embed="rId2"/>
          <a:stretch/>
        </p:blipFill>
        <p:spPr>
          <a:xfrm>
            <a:off x="1835280" y="1844640"/>
            <a:ext cx="4752720" cy="356544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Сказывается ли его влияние на окружающую среду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16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170" name="" descr=""/>
          <p:cNvPicPr/>
          <p:nvPr/>
        </p:nvPicPr>
        <p:blipFill>
          <a:blip r:embed="rId2"/>
          <a:stretch/>
        </p:blipFill>
        <p:spPr>
          <a:xfrm>
            <a:off x="1476360" y="1628640"/>
            <a:ext cx="2262240" cy="3017880"/>
          </a:xfrm>
          <a:prstGeom prst="rect">
            <a:avLst/>
          </a:prstGeom>
          <a:ln w="0">
            <a:noFill/>
          </a:ln>
        </p:spPr>
      </p:pic>
      <p:pic>
        <p:nvPicPr>
          <p:cNvPr id="1171" name="" descr=""/>
          <p:cNvPicPr/>
          <p:nvPr/>
        </p:nvPicPr>
        <p:blipFill>
          <a:blip r:embed="rId3"/>
          <a:stretch/>
        </p:blipFill>
        <p:spPr>
          <a:xfrm>
            <a:off x="3780000" y="1628640"/>
            <a:ext cx="3906720" cy="293220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Охарактеризуйте понятие ЗВУК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    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Звук – это …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6" name=""/>
          <p:cNvSpPr/>
          <p:nvPr/>
        </p:nvSpPr>
        <p:spPr>
          <a:xfrm>
            <a:off x="395280" y="2997360"/>
            <a:ext cx="822960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Слуховое ощущение человека, обладающего нормальным слух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in" orient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1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1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Назовите виды загрязнения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Шумово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Бытово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Химическо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адиоактивно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осмическо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Влияние шума на организм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 орган слух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 центральную нервную систем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 вегетативную нервную систем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 внутренние орга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К чему приводит длительное шумовое воздействие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рушение подвижности нервных процесс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рушение психического состояния челове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рушение  работы сердечно-сосудистой систем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нфразву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льтразву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5" name=""/>
          <p:cNvSpPr txBox="1"/>
          <p:nvPr/>
        </p:nvSpPr>
        <p:spPr>
          <a:xfrm>
            <a:off x="2843280" y="333360"/>
            <a:ext cx="374472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иды звуков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Шумы машин делятся на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Механические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Аэродинамические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Гидродинамические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Электромагнитные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25:56Z</dcterms:created>
  <dc:creator>07083</dc:creator>
  <dc:description/>
  <dc:language>en-US</dc:language>
  <cp:lastModifiedBy>Алексей</cp:lastModifiedBy>
  <dcterms:modified xsi:type="dcterms:W3CDTF">2009-12-22T16:59:14Z</dcterms:modified>
  <cp:revision>9</cp:revision>
  <dc:subject/>
  <dc:title>Шумовое загрязнение</dc:title>
</cp:coreProperties>
</file>